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sng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Page </a:t>
            </a:r>
            <a:r>
              <a:rPr b="1" i="1" lang="en-US" sz="1000" spc="-1" strike="sngStrike" u="sng">
                <a:solidFill>
                  <a:srgbClr val="000000"/>
                </a:solidFill>
                <a:uFillTx/>
                <a:latin typeface="MS UI Gothic"/>
              </a:rPr>
              <a:t></a:t>
            </a:r>
            <a:r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 </a:t>
            </a:r>
            <a:fld id="{F038B3F2-FCD3-44E0-A9E4-A2CDB8E3FF45}" type="slidenum"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743040" indent="-285840">
              <a:lnSpc>
                <a:spcPct val="120000"/>
              </a:lnSpc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143000" indent="-228600">
              <a:lnSpc>
                <a:spcPct val="120000"/>
              </a:lnSpc>
              <a:buClr>
                <a:srgbClr val="da58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1600200" indent="-228600">
              <a:lnSpc>
                <a:spcPct val="120000"/>
              </a:lnSpc>
              <a:buClr>
                <a:srgbClr val="963d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16002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16002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sng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6480" indent="-6480">
              <a:lnSpc>
                <a:spcPct val="120000"/>
              </a:lnSpc>
              <a:buClr>
                <a:srgbClr val="000000"/>
              </a:buClr>
              <a:buSzPct val="25000"/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</a:rPr>
              <a:t>模板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模板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moban/     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行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模板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hangye/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节日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模板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jieri/           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素材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sucai/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背景图片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beijing/      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图表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tubiao/     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优秀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xiazai/        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教程： 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powerpoint/     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ord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教程： 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word/              Excel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教程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excel/ 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资料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ziliao/                PPT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课件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kejian/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范文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fanwen/             </a:t>
            </a: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试卷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shiti/ 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sngStrike" u="sng">
                <a:solidFill>
                  <a:srgbClr val="ffffff"/>
                </a:solidFill>
                <a:uFillTx/>
                <a:latin typeface="Arial"/>
              </a:rPr>
              <a:t>教案下载：</a:t>
            </a: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www.1ppt.com/jiaoan/ 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使用规范说明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6920" cy="863640"/>
            <a:chOff x="479520" y="1268280"/>
            <a:chExt cx="820692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6920" cy="576360"/>
              <a:chOff x="479520" y="1268280"/>
              <a:chExt cx="820692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492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440" y="1268280"/>
                <a:ext cx="102492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492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0988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492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080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6920" cy="287280"/>
              <a:chOff x="479520" y="1844640"/>
              <a:chExt cx="820692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背景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492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文本和线条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阴影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440" y="1844640"/>
                <a:ext cx="102492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标题文本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492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填充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098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强调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492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超链接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08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sngStrike" u="sng">
                    <a:solidFill>
                      <a:srgbClr val="ffffff"/>
                    </a:solidFill>
                    <a:uFillTx/>
                    <a:latin typeface="Arial"/>
                  </a:rPr>
                  <a:t>已访超链接</a:t>
                </a:r>
                <a:endParaRPr b="1" i="1" lang="en-US" sz="12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sngStrike" u="sng">
                <a:solidFill>
                  <a:srgbClr val="ffffff"/>
                </a:solidFill>
                <a:uFillTx/>
                <a:latin typeface="Arial"/>
              </a:rPr>
              <a:t>配色方案修改：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配色方案在【格式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幻灯片设计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配色方案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编辑配色方案】下调整。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sng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r>
              <a:rPr b="1" i="1" lang="zh-CN" sz="1600" spc="-1" strike="sngStrike" u="sng">
                <a:solidFill>
                  <a:srgbClr val="ffffff"/>
                </a:solidFill>
                <a:uFillTx/>
                <a:latin typeface="Arial"/>
              </a:rPr>
              <a:t>的添加：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添加修改在【视图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母版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幻灯片母版】下调整。直接选择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图片删除或修改。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sngStrike" u="sng">
                <a:solidFill>
                  <a:srgbClr val="ffffff"/>
                </a:solidFill>
                <a:uFillTx/>
                <a:latin typeface="Arial"/>
              </a:rPr>
              <a:t>字体格式的设置：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括标题和文本格式的设置在【视图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母版】</a:t>
            </a: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--&gt;</a:t>
            </a: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Arial"/>
              </a:rPr>
              <a:t>【幻灯片母版】下调整。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图示</a:t>
            </a: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_01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360"/>
            <a:chOff x="2197080" y="1484280"/>
            <a:chExt cx="5543640" cy="79236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36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963d00"/>
                </a:gs>
                <a:gs pos="100000">
                  <a:srgbClr val="ff902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360"/>
            <a:chOff x="2197080" y="2565360"/>
            <a:chExt cx="5543640" cy="79236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36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360"/>
            <a:chOff x="1332000" y="1484280"/>
            <a:chExt cx="792000" cy="79236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360"/>
            </a:xfrm>
            <a:custGeom>
              <a:avLst/>
              <a:gdLst>
                <a:gd name="textAreaLeft" fmla="*/ 29880 w 792000"/>
                <a:gd name="textAreaRight" fmla="*/ 762120 w 792000"/>
                <a:gd name="textAreaTop" fmla="*/ 29880 h 792360"/>
                <a:gd name="textAreaBottom" fmla="*/ 76248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2814" y="0"/>
                  </a:moveTo>
                  <a:arcTo wR="2814" hR="2814" stAng="16200000" swAng="-5400000"/>
                  <a:lnTo>
                    <a:pt x="0" y="18796"/>
                  </a:lnTo>
                  <a:arcTo wR="2814" hR="2814" stAng="10800000" swAng="-5400000"/>
                  <a:lnTo>
                    <a:pt x="18786" y="21610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5800" y="1698480"/>
              <a:ext cx="214200" cy="362160"/>
            </a:xfrm>
            <a:prstGeom prst="rect">
              <a:avLst/>
            </a:prstGeom>
          </p:spPr>
          <p:txBody>
            <a:bodyPr wrap="none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sngStrike" u="sng">
                  <a:ln w="0">
                    <a:noFill/>
                  </a:ln>
                  <a:solidFill>
                    <a:srgbClr val="963d00"/>
                  </a:solidFill>
                  <a:uFillTx/>
                  <a:latin typeface="Arial Black"/>
                </a:rPr>
                <a:t>1</a:t>
              </a:r>
              <a:endParaRPr b="1" i="1" lang="en-US" sz="1400" spc="1" strike="sngStrike" u="sng">
                <a:ln w="0">
                  <a:noFill/>
                </a:ln>
                <a:solidFill>
                  <a:srgbClr val="963d00"/>
                </a:solidFill>
                <a:uFillTx/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360"/>
            <a:chOff x="1332000" y="2565360"/>
            <a:chExt cx="792000" cy="79236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360"/>
            </a:xfrm>
            <a:custGeom>
              <a:avLst/>
              <a:gdLst>
                <a:gd name="textAreaLeft" fmla="*/ 29880 w 792000"/>
                <a:gd name="textAreaRight" fmla="*/ 762120 w 792000"/>
                <a:gd name="textAreaTop" fmla="*/ 29880 h 792360"/>
                <a:gd name="textAreaBottom" fmla="*/ 76248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2814" y="0"/>
                  </a:moveTo>
                  <a:arcTo wR="2814" hR="2814" stAng="16200000" swAng="-5400000"/>
                  <a:lnTo>
                    <a:pt x="0" y="18796"/>
                  </a:lnTo>
                  <a:arcTo wR="2814" hR="2814" stAng="10800000" swAng="-5400000"/>
                  <a:lnTo>
                    <a:pt x="18786" y="21610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5800" y="2779560"/>
              <a:ext cx="285840" cy="362160"/>
            </a:xfrm>
            <a:prstGeom prst="rect">
              <a:avLst/>
            </a:prstGeom>
          </p:spPr>
          <p:txBody>
            <a:bodyPr wrap="none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sngStrike" u="sng">
                  <a:ln w="0">
                    <a:noFill/>
                  </a:ln>
                  <a:solidFill>
                    <a:srgbClr val="ffffff"/>
                  </a:solidFill>
                  <a:uFillTx/>
                  <a:latin typeface="Arial Black"/>
                </a:rPr>
                <a:t>2</a:t>
              </a:r>
              <a:endParaRPr b="1" i="1" lang="en-US" sz="1400" spc="1" strike="sngStrike" u="sng">
                <a:ln w="0">
                  <a:noFill/>
                </a:ln>
                <a:solidFill>
                  <a:srgbClr val="ffffff"/>
                </a:solidFill>
                <a:uFillTx/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5800" y="3859200"/>
              <a:ext cx="285840" cy="361800"/>
            </a:xfrm>
            <a:prstGeom prst="rect">
              <a:avLst/>
            </a:prstGeom>
          </p:spPr>
          <p:txBody>
            <a:bodyPr wrap="none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sngStrike" u="sng">
                  <a:ln w="0">
                    <a:noFill/>
                  </a:ln>
                  <a:solidFill>
                    <a:srgbClr val="ffffff"/>
                  </a:solidFill>
                  <a:uFillTx/>
                  <a:latin typeface="Arial Black"/>
                </a:rPr>
                <a:t>3</a:t>
              </a:r>
              <a:endParaRPr b="1" i="1" lang="en-US" sz="1400" spc="1" strike="sngStrike" u="sng">
                <a:ln w="0">
                  <a:noFill/>
                </a:ln>
                <a:solidFill>
                  <a:srgbClr val="ffffff"/>
                </a:solidFill>
                <a:uFillTx/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5800" y="4938480"/>
              <a:ext cx="285840" cy="362160"/>
            </a:xfrm>
            <a:prstGeom prst="rect">
              <a:avLst/>
            </a:prstGeom>
          </p:spPr>
          <p:txBody>
            <a:bodyPr wrap="none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sngStrike" u="sng">
                  <a:ln w="0">
                    <a:noFill/>
                  </a:ln>
                  <a:solidFill>
                    <a:srgbClr val="ffffff"/>
                  </a:solidFill>
                  <a:uFillTx/>
                  <a:latin typeface="Arial Black"/>
                </a:rPr>
                <a:t>4</a:t>
              </a:r>
              <a:endParaRPr b="1" i="1" lang="en-US" sz="1400" spc="1" strike="sngStrike" u="sng">
                <a:ln w="0">
                  <a:noFill/>
                </a:ln>
                <a:solidFill>
                  <a:srgbClr val="ffffff"/>
                </a:solidFill>
                <a:uFillTx/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图示</a:t>
            </a: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_02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963d00"/>
                </a:gs>
                <a:gs pos="100000">
                  <a:srgbClr val="ff902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ff9021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280" y="2170080"/>
              <a:ext cx="32086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440"/>
            <a:chOff x="1060560" y="1573200"/>
            <a:chExt cx="3295440" cy="48744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ffb400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188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文字内容</a:t>
              </a:r>
              <a:endParaRPr b="1" i="1" lang="en-US" sz="16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6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5f5f5f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600" y="1609560"/>
              <a:ext cx="322776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图示</a:t>
            </a: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_04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w="12600">
            <a:solidFill>
              <a:srgbClr val="9e9e9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276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1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384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2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276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3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348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4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276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5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348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6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240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7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312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8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5920" y="5386320"/>
            <a:ext cx="35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sngStrike" u="sng">
                <a:solidFill>
                  <a:srgbClr val="ffffff"/>
                </a:solidFill>
                <a:uFillTx/>
                <a:latin typeface="Arial Black"/>
              </a:rPr>
              <a:t>09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000" y="353484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44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560"/>
              <a:ext cx="432000" cy="57600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000"/>
                <a:gd name="textAreaBottom" fmla="*/ 561960 h 576000"/>
              </a:gdLst>
              <a:ahLst/>
              <a:rect l="textAreaLeft" t="textAreaTop" r="textAreaRight" b="textAreaBottom"/>
              <a:pathLst>
                <a:path w="21600" h="28794">
                  <a:moveTo>
                    <a:pt x="2435" y="0"/>
                  </a:moveTo>
                  <a:arcTo wR="2435" hR="2435" stAng="16200000" swAng="-5400000"/>
                  <a:lnTo>
                    <a:pt x="0" y="26359"/>
                  </a:lnTo>
                  <a:arcTo wR="2435" hR="2435" stAng="10800000" swAng="-5400000"/>
                  <a:lnTo>
                    <a:pt x="19165" y="28794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00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000"/>
                <a:gd name="textAreaBottom" fmla="*/ 561960 h 576000"/>
              </a:gdLst>
              <a:ahLst/>
              <a:rect l="textAreaLeft" t="textAreaTop" r="textAreaRight" b="textAreaBottom"/>
              <a:pathLst>
                <a:path w="21600" h="28794">
                  <a:moveTo>
                    <a:pt x="2435" y="0"/>
                  </a:moveTo>
                  <a:arcTo wR="2435" hR="2435" stAng="16200000" swAng="-5400000"/>
                  <a:lnTo>
                    <a:pt x="0" y="26359"/>
                  </a:lnTo>
                  <a:arcTo wR="2435" hR="2435" stAng="10800000" swAng="-5400000"/>
                  <a:lnTo>
                    <a:pt x="19165" y="28794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963d00"/>
                </a:gs>
                <a:gs pos="100000">
                  <a:srgbClr val="ff902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40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ffffff"/>
                  </a:solidFill>
                  <a:uFillTx/>
                  <a:latin typeface="Arial"/>
                </a:rPr>
                <a:t>单击此处添加文字内容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20000"/>
                </a:lnTo>
                <a:lnTo>
                  <a:pt x="20000" y="20000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4720" y="167328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4720" y="498636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4720" y="461808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4720" y="424980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4720" y="388152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4720" y="351324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4720" y="314496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4720" y="277668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4720" y="240840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4720" y="2039760"/>
            <a:ext cx="61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sngStrike" u="sng">
                <a:solidFill>
                  <a:srgbClr val="ffffff"/>
                </a:solidFill>
                <a:uFillTx/>
                <a:latin typeface="Arial"/>
              </a:rPr>
              <a:t>文字内容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272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596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ffffff"/>
                  </a:solidFill>
                  <a:uFillTx/>
                  <a:latin typeface="Arial"/>
                </a:rPr>
                <a:t>单击添加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图示</a:t>
            </a: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_05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502" y="0"/>
                </a:moveTo>
                <a:cubicBezTo>
                  <a:pt x="13688" y="2211"/>
                  <a:pt x="17811" y="6356"/>
                  <a:pt x="20000" y="11558"/>
                </a:cubicBezTo>
              </a:path>
            </a:pathLst>
          </a:custGeom>
          <a:noFill/>
          <a:ln w="38160">
            <a:solidFill>
              <a:srgbClr val="963d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502" y="0"/>
                </a:moveTo>
                <a:cubicBezTo>
                  <a:pt x="13688" y="2211"/>
                  <a:pt x="17811" y="6356"/>
                  <a:pt x="20000" y="11558"/>
                </a:cubicBezTo>
              </a:path>
            </a:pathLst>
          </a:custGeom>
          <a:noFill/>
          <a:ln w="38160">
            <a:solidFill>
              <a:srgbClr val="963d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502" y="0"/>
                </a:moveTo>
                <a:cubicBezTo>
                  <a:pt x="13688" y="2211"/>
                  <a:pt x="17811" y="6356"/>
                  <a:pt x="20000" y="11558"/>
                </a:cubicBezTo>
              </a:path>
            </a:pathLst>
          </a:custGeom>
          <a:noFill/>
          <a:ln w="38160">
            <a:solidFill>
              <a:srgbClr val="9e9e9e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560" cy="3022560"/>
            <a:chOff x="1189080" y="1773360"/>
            <a:chExt cx="3022560" cy="3022560"/>
          </a:xfrm>
        </p:grpSpPr>
        <p:sp>
          <p:nvSpPr>
            <p:cNvPr id="251" name="Line 7"/>
            <p:cNvSpPr/>
            <p:nvPr/>
          </p:nvSpPr>
          <p:spPr>
            <a:xfrm flipH="1">
              <a:off x="1677240" y="1773360"/>
              <a:ext cx="1072800" cy="302256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50040" y="1773360"/>
              <a:ext cx="975960" cy="302256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7240" y="294264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640"/>
              <a:ext cx="253692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502" y="0"/>
                </a:moveTo>
                <a:cubicBezTo>
                  <a:pt x="13688" y="2211"/>
                  <a:pt x="17811" y="6356"/>
                  <a:pt x="20000" y="11558"/>
                </a:cubicBezTo>
              </a:path>
            </a:pathLst>
          </a:custGeom>
          <a:noFill/>
          <a:ln w="38160">
            <a:solidFill>
              <a:srgbClr val="9e9e9e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1960" cy="1327320"/>
            <a:chOff x="3073680" y="4106880"/>
            <a:chExt cx="1281960" cy="132732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8800" y="4106880"/>
              <a:ext cx="1266840" cy="1247760"/>
              <a:chOff x="308880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880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8800" y="4106880"/>
                <a:ext cx="125856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sngStrike" u="sng">
                    <a:solidFill>
                      <a:srgbClr val="1967b1"/>
                    </a:solidFill>
                    <a:uFillTx/>
                    <a:latin typeface="Arial"/>
                  </a:rPr>
                  <a:t>单击此处</a:t>
                </a: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sngStrike" u="sng">
                    <a:solidFill>
                      <a:srgbClr val="1967b1"/>
                    </a:solidFill>
                    <a:uFillTx/>
                    <a:latin typeface="Arial"/>
                  </a:rPr>
                  <a:t>添加文字</a:t>
                </a:r>
                <a:endParaRPr b="1" i="1" lang="en-US" sz="2400" spc="-1" strike="sng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2280"/>
              <a:chOff x="3073680" y="4921920"/>
              <a:chExt cx="1281240" cy="51228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800" y="482580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52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44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8760"/>
                <a:ext cx="1055880" cy="505440"/>
                <a:chOff x="3073680" y="4928760"/>
                <a:chExt cx="1055880" cy="50544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680" y="4843800"/>
                  <a:ext cx="18684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2240" y="4841640"/>
                  <a:ext cx="18684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240" y="4821480"/>
                  <a:ext cx="18684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000" y="4797360"/>
                  <a:ext cx="18684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7720"/>
            <a:chOff x="1189080" y="4240080"/>
            <a:chExt cx="1008000" cy="101772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52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单击此处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添加文字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632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560" y="4907880"/>
              <a:ext cx="874800" cy="349920"/>
              <a:chOff x="1249560" y="4907880"/>
              <a:chExt cx="874800" cy="34992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1840" y="4907880"/>
                <a:ext cx="722520" cy="327960"/>
                <a:chOff x="1401840" y="4907880"/>
                <a:chExt cx="722520" cy="32796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4960" y="480888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3960" y="484092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3920" y="48470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520" y="485352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560" y="4912920"/>
                <a:ext cx="721080" cy="344880"/>
                <a:chOff x="1249560" y="4912920"/>
                <a:chExt cx="721080" cy="34488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040" y="4854240"/>
                  <a:ext cx="12708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5560" y="485280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6960" y="483984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256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7720"/>
            <a:chOff x="684360" y="2440080"/>
            <a:chExt cx="1008000" cy="101772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52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单击此处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添加文字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632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4840" y="3107880"/>
              <a:ext cx="874800" cy="349920"/>
              <a:chOff x="744840" y="3107880"/>
              <a:chExt cx="874800" cy="34992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120" y="3107880"/>
                <a:ext cx="722520" cy="327960"/>
                <a:chOff x="897120" y="3107880"/>
                <a:chExt cx="722520" cy="32796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240" y="300888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240" y="304092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59200" y="30470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099800" y="305352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4840" y="3112920"/>
                <a:ext cx="721080" cy="344880"/>
                <a:chOff x="744840" y="3112920"/>
                <a:chExt cx="721080" cy="34488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8320" y="3054240"/>
                  <a:ext cx="12708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0840" y="305280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240" y="303984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256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7720"/>
            <a:chOff x="3708360" y="2421000"/>
            <a:chExt cx="1008000" cy="101772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52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单击此处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添加文字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632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8840" y="3088800"/>
              <a:ext cx="874800" cy="349920"/>
              <a:chOff x="3768840" y="3088800"/>
              <a:chExt cx="874800" cy="34992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120" y="3088800"/>
                <a:ext cx="722520" cy="327960"/>
                <a:chOff x="3921120" y="3088800"/>
                <a:chExt cx="722520" cy="32796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240" y="298980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240" y="30218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3200" y="302796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3800" y="303444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8840" y="3093840"/>
                <a:ext cx="721080" cy="344880"/>
                <a:chOff x="3768840" y="3093840"/>
                <a:chExt cx="721080" cy="34488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2320" y="3035160"/>
                  <a:ext cx="12708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4840" y="303372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240" y="302076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348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7720"/>
            <a:chOff x="2197080" y="1268280"/>
            <a:chExt cx="1008000" cy="101772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52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单击此处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sngStrike" u="sng">
                      <a:solidFill>
                        <a:srgbClr val="dddddd"/>
                      </a:solidFill>
                      <a:uFillTx/>
                      <a:latin typeface="Arial"/>
                    </a:rPr>
                    <a:t>添加文字</a:t>
                  </a:r>
                  <a:endParaRPr b="1" i="1" lang="en-US" sz="1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632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560" y="1936080"/>
              <a:ext cx="874800" cy="349920"/>
              <a:chOff x="2257560" y="1936080"/>
              <a:chExt cx="874800" cy="34992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09840" y="1936080"/>
                <a:ext cx="722520" cy="327960"/>
                <a:chOff x="2409840" y="1936080"/>
                <a:chExt cx="722520" cy="32796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2960" y="183708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1960" y="186912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1920" y="18752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520" y="188172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560" y="1941120"/>
                <a:ext cx="721080" cy="344880"/>
                <a:chOff x="2257560" y="1941120"/>
                <a:chExt cx="721080" cy="34488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040" y="1882440"/>
                  <a:ext cx="12708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3560" y="188100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4960" y="186804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760"/>
                  <a:ext cx="12708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sng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502" y="0"/>
                </a:moveTo>
                <a:cubicBezTo>
                  <a:pt x="13688" y="2211"/>
                  <a:pt x="17811" y="6356"/>
                  <a:pt x="20000" y="11558"/>
                </a:cubicBezTo>
              </a:path>
            </a:pathLst>
          </a:custGeom>
          <a:noFill/>
          <a:ln w="38160">
            <a:solidFill>
              <a:srgbClr val="9e9e9e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963d00"/>
              </a:gs>
              <a:gs pos="100000">
                <a:srgbClr val="ff9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sngStrike" u="sng">
                <a:solidFill>
                  <a:srgbClr val="ff9021"/>
                </a:solidFill>
                <a:uFillTx/>
                <a:latin typeface="Arial"/>
              </a:rPr>
              <a:t>单击此处添加文字内容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sngStrike" u="sng">
                <a:solidFill>
                  <a:srgbClr val="ff9021"/>
                </a:solidFill>
                <a:uFillTx/>
                <a:latin typeface="Arial"/>
              </a:rPr>
              <a:t>单击此处添加文字内容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sngStrike" u="sng">
                <a:solidFill>
                  <a:srgbClr val="ff9021"/>
                </a:solidFill>
                <a:uFillTx/>
                <a:latin typeface="Arial"/>
              </a:rPr>
              <a:t>单击此处添加文字内容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sngStrike" u="sng">
                <a:solidFill>
                  <a:srgbClr val="ff9021"/>
                </a:solidFill>
                <a:uFillTx/>
                <a:latin typeface="Arial"/>
              </a:rPr>
              <a:t>单击此处添加文字内容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sngStrike" u="sng">
                <a:solidFill>
                  <a:srgbClr val="ff9021"/>
                </a:solidFill>
                <a:uFillTx/>
                <a:latin typeface="Arial"/>
              </a:rPr>
              <a:t>单击此处添加文字内容</a:t>
            </a: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sngStrike" u="sng">
                  <a:solidFill>
                    <a:srgbClr val="ffb400"/>
                  </a:solidFill>
                  <a:uFillTx/>
                  <a:latin typeface="Arial"/>
                </a:rPr>
                <a:t>单击此处添加标题文字</a:t>
              </a: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560" y="1607040"/>
              <a:ext cx="288036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529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Arial"/>
              </a:rPr>
              <a:t>感谢您的关注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/>
  <dcterms:modified xsi:type="dcterms:W3CDTF">2015-08-27T01:14:19Z</dcterms:modified>
  <cp:revision>0</cp:revision>
  <dc:subject/>
  <dc:title>PowerPoint Template</dc:title>
</cp:coreProperties>
</file>